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wmf" ContentType="image/x-wmf"/>
  <Override PartName="/ppt/media/image12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89AC-8031-4F6C-A6BB-1DA53C457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A287-728A-4AB6-9255-64980FAFB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75A0-8529-412A-B626-FD13C6024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9F3A-BB6C-4263-8CD7-179EE6A82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9026-996F-4378-A649-173957A67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272C-D968-47B3-94EB-C8010366D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59FC-7D32-4DC7-906B-6CECBC57B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DCBD-F21D-4BCC-BC86-15CA470F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0D1A-DBBD-4F0F-83F7-0303D080A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3922-956B-41D4-A55F-FE462D7A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DDAB-CFAC-4D5F-A465-7DF5CC14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24D7-67D6-47D0-89A9-E33ACDE67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1BA-7A16-4B98-8864-9249AAB1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A49-6984-410C-9AD8-3B46D1D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217-4489-486E-9150-D0E567C7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96B-8185-4F53-B4E7-209CADB4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814-53DB-4D58-A201-18922610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B78-FB27-49A1-BE04-C3A1265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621-CB54-4FFD-BC7A-84F209F1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03B-CC5E-4053-8524-517C839A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A3E-5103-46E1-A3B3-B4F6953E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B78-0799-4A5D-AA44-C6EF48D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796-10F0-4C00-8AF1-D3C4A685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DB0-896F-410F-AF88-045F3EF9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5F5D-5E88-46A1-AEDD-56E93F8DD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 a Bigger B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900432595[1]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MP900402284[1]"/>
          <p:cNvPicPr/>
          <p:nvPr/>
        </p:nvPicPr>
        <p:blipFill>
          <a:blip r:embed="rId2"/>
          <a:stretch/>
        </p:blipFill>
        <p:spPr>
          <a:xfrm>
            <a:off x="304920" y="38088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CURRENT USER\AppData\Local\Microsoft\Windows\Temporary Internet Files\Content.IE5\LXJT8XGM\MC900232654[1].wmf"/>
          <p:cNvPicPr/>
          <p:nvPr/>
        </p:nvPicPr>
        <p:blipFill>
          <a:blip r:embed="rId3"/>
          <a:stretch/>
        </p:blipFill>
        <p:spPr>
          <a:xfrm>
            <a:off x="326880" y="4572000"/>
            <a:ext cx="1244880" cy="1857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CURRENT USER\AppData\Local\Microsoft\Windows\Temporary Internet Files\Content.IE5\M27XF07U\MP900289682[1].jpg"/>
          <p:cNvPicPr/>
          <p:nvPr/>
        </p:nvPicPr>
        <p:blipFill>
          <a:blip r:embed="rId4"/>
          <a:stretch/>
        </p:blipFill>
        <p:spPr>
          <a:xfrm>
            <a:off x="7010280" y="4419720"/>
            <a:ext cx="153684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flabbergasted by the conclusion.  Orbit blew the biggest bubble.  A gum that is meant for chewing and not blowing.I had predicted that Double Bubble would have the largest diameter.  It ended up being the smal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P900427652[1]"/>
          <p:cNvPicPr/>
          <p:nvPr/>
        </p:nvPicPr>
        <p:blipFill>
          <a:blip r:embed="rId1"/>
          <a:stretch/>
        </p:blipFill>
        <p:spPr>
          <a:xfrm>
            <a:off x="6172200" y="411480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65D91ACC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A41060F5"/>
          <p:cNvPicPr/>
          <p:nvPr/>
        </p:nvPicPr>
        <p:blipFill>
          <a:blip r:embed="rId2"/>
          <a:stretch/>
        </p:blipFill>
        <p:spPr>
          <a:xfrm>
            <a:off x="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29E11E24"/>
          <p:cNvPicPr/>
          <p:nvPr/>
        </p:nvPicPr>
        <p:blipFill>
          <a:blip r:embed="rId3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133DDE"/>
          <p:cNvPicPr/>
          <p:nvPr/>
        </p:nvPicPr>
        <p:blipFill>
          <a:blip r:embed="rId4"/>
          <a:stretch/>
        </p:blipFill>
        <p:spPr>
          <a:xfrm>
            <a:off x="4572000" y="1371600"/>
            <a:ext cx="4572000" cy="2819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0" y="152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of my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s of gum produce the largest bubbl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900153936[1]"/>
          <p:cNvPicPr/>
          <p:nvPr/>
        </p:nvPicPr>
        <p:blipFill>
          <a:blip r:embed="rId1"/>
          <a:stretch/>
        </p:blipFill>
        <p:spPr>
          <a:xfrm>
            <a:off x="304920" y="2819520"/>
            <a:ext cx="1504800" cy="351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900232113[1]"/>
          <p:cNvPicPr/>
          <p:nvPr/>
        </p:nvPicPr>
        <p:blipFill>
          <a:blip r:embed="rId2"/>
          <a:stretch/>
        </p:blipFill>
        <p:spPr>
          <a:xfrm>
            <a:off x="1981080" y="3962520"/>
            <a:ext cx="1936800" cy="245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MC900156659[1]"/>
          <p:cNvPicPr/>
          <p:nvPr/>
        </p:nvPicPr>
        <p:blipFill>
          <a:blip r:embed="rId3"/>
          <a:stretch/>
        </p:blipFill>
        <p:spPr>
          <a:xfrm>
            <a:off x="3962520" y="2514600"/>
            <a:ext cx="2257200" cy="231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C900040402[1]"/>
          <p:cNvPicPr/>
          <p:nvPr/>
        </p:nvPicPr>
        <p:blipFill>
          <a:blip r:embed="rId4"/>
          <a:stretch/>
        </p:blipFill>
        <p:spPr>
          <a:xfrm>
            <a:off x="6705720" y="22860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MM900283942[1]"/>
          <p:cNvPicPr/>
          <p:nvPr/>
        </p:nvPicPr>
        <p:blipFill>
          <a:blip r:embed="rId5"/>
          <a:stretch/>
        </p:blipFill>
        <p:spPr>
          <a:xfrm>
            <a:off x="5562720" y="4648320"/>
            <a:ext cx="1519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Double Bubble is going to mak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C900264288[1]"/>
          <p:cNvPicPr/>
          <p:nvPr/>
        </p:nvPicPr>
        <p:blipFill>
          <a:blip r:embed="rId1"/>
          <a:stretch/>
        </p:blipFill>
        <p:spPr>
          <a:xfrm>
            <a:off x="2514600" y="3657600"/>
            <a:ext cx="3505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Y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icy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ba B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ub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900447262[1]"/>
          <p:cNvPicPr/>
          <p:nvPr/>
        </p:nvPicPr>
        <p:blipFill>
          <a:blip r:embed="rId1"/>
          <a:stretch/>
        </p:blipFill>
        <p:spPr>
          <a:xfrm>
            <a:off x="4800600" y="2209680"/>
            <a:ext cx="38354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4 people of each gender who think they are good at blowing bubbl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Bubble Yum, Hubba Bubba, Juicy Fruit and Double Bubble and have each person blow the different types of gum at different ti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participant blow 3 bubbles of each kind of bubble g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how large each diameter of each bubble is in 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1496880"/>
                <a:gridCol w="1873440"/>
                <a:gridCol w="1496880"/>
                <a:gridCol w="1498680"/>
                <a:gridCol w="186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yn Gilles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 Rh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5241960"/>
        </p:xfrm>
        <a:graphic>
          <a:graphicData uri="http://schemas.openxmlformats.org/drawingml/2006/table">
            <a:tbl>
              <a:tblPr/>
              <a:tblGrid>
                <a:gridCol w="1566720"/>
                <a:gridCol w="1960560"/>
                <a:gridCol w="1567080"/>
                <a:gridCol w="1568520"/>
                <a:gridCol w="1566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ckyn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de Sundh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drah 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600200"/>
          <a:ext cx="8839080" cy="2971800"/>
        </p:xfrm>
        <a:graphic>
          <a:graphicData uri="http://schemas.openxmlformats.org/drawingml/2006/table">
            <a:tbl>
              <a:tblPr/>
              <a:tblGrid>
                <a:gridCol w="1609560"/>
                <a:gridCol w="2006640"/>
                <a:gridCol w="1606680"/>
                <a:gridCol w="1611360"/>
                <a:gridCol w="2004840"/>
              </a:tblGrid>
              <a:tr h="116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lan Bar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981080" y="4952880"/>
          <a:ext cx="5181840" cy="17827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Box 1"/>
          <p:cNvSpPr/>
          <p:nvPr/>
        </p:nvSpPr>
        <p:spPr>
          <a:xfrm>
            <a:off x="-11160" y="5310360"/>
            <a:ext cx="19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all averag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5:01Z</dcterms:created>
  <dc:creator>USD376</dc:creator>
  <dc:description/>
  <dc:language>en-US</dc:language>
  <cp:lastModifiedBy>CURRENT USER</cp:lastModifiedBy>
  <dcterms:modified xsi:type="dcterms:W3CDTF">2011-02-24T04:33:34Z</dcterms:modified>
  <cp:revision>14</cp:revision>
  <dc:subject/>
  <dc:title>Blow a Bigger Bubble</dc:title>
</cp:coreProperties>
</file>